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5DDE5-4C24-4170-886D-12C81A30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F3C31-5E93-4A99-AF63-7832388F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928F4-19DB-4BDE-8576-3EBDB4CD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36AEB-4FFB-4E24-9F85-DF5072A8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0353B-50F2-4EDB-8720-B20CA53D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16F16-88B2-48D9-AC37-867A83A8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EBDC2-E1DD-476B-8290-1ED15684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A3F31-20DE-4E64-9CEE-3E135B9F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4B53D-CBE6-4579-B5D6-06532BB9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B13CD-E4F0-4FC8-9E8B-F11B5D84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FAC0C-AF9A-4937-B4B5-474A6B3E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9DB06-EAA1-4BFA-98E2-C25C9653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10.05.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019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elmut Lindi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677E-760F-4D62-ACE9-F5B1A087D99F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Betriebliche Systemforschu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048120"/>
            <a:ext cx="63244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ufgabe 52 – Teil 3</a:t>
            </a:r>
            <a:br>
              <a:rPr sz="4400"/>
            </a:b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(Klausur SS 2000/ A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ösung b)</a:t>
            </a:r>
            <a:br>
              <a:rPr sz="4400"/>
            </a:b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Welchen Deckungsbeitrag müßte Produkt 4 mindestens erwirtschaften, damit es produziert wird?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5029200"/>
            <a:ext cx="8217000" cy="13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F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de-DE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7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de-DE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+ 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6,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de-DE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de-DE" sz="18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de-DE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ternative 2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de-DE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1,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  + 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de-DE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-0,42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 +  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de-DE" sz="1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0,8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       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1,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  + 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-0,42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 + 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6,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0,8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      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9,7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2247840"/>
          <a:ext cx="8534160" cy="17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47840"/>
                    <a:ext cx="853416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80880" y="2286000"/>
            <a:ext cx="533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267080"/>
            <a:ext cx="8229600" cy="71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= 5,7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laut Zielfunktion  4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Alternative 1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– 4,0 = 5,7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ür z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9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ösung b)</a:t>
            </a:r>
            <a:br>
              <a:rPr sz="4400"/>
            </a:b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Welchen Deckungsbeitrag müßte Produkt 4 mindestens erwirtschaften, damit es produziert wird?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3623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209680"/>
            <a:ext cx="8153280" cy="25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rläuter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Indirekter und direkter Ertrag liefern die Kriterien für die Auswahl eines Prozesses aus gegebenen Prozeßalternativen bei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Ertragsmaximierun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 wie folgt:</a:t>
            </a:r>
            <a:br>
              <a:rPr sz="1800"/>
            </a:b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Wenn z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– c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&lt; 0 dann wird Prozeß P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ewählt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Wenn z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&gt; 0 dann keine Wahl von P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Wenn z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– c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= 0 dann Gleichwertigkeit von P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und Prozeßk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876920"/>
            <a:ext cx="20574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Konkre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lt; 0 mit j = 4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9,7 – c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9,7 &lt; c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51055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5257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 einem DB von 9,7 wird auch Produkt 4 hergestellt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ösung b)</a:t>
            </a:r>
            <a:br>
              <a:rPr sz="4400"/>
            </a:b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Welche Variable würde aus der Basis fallen, wenn Produkt 4 hergestellt werden würde ?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209680"/>
            <a:ext cx="82296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einem DB c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9,7 bei Produkt 4 sieht die neue Zielfunktion wie folgt aus: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F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7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6,5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9,7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ax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Deckungsbeiträge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Hilfe der vorhandenen Restriktionen und der neuen Zielfunktion, kann man  unter Verwendung des Simplexalgorithmus und des Iterators ein neues Optimaltableau berech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ösung b)</a:t>
            </a:r>
            <a:br>
              <a:rPr sz="4400"/>
            </a:b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Welche Variable würde aus der Basis fallen, wenn Produkt 4 hergestellt werden würde ?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92320" y="2571840"/>
          <a:ext cx="6761160" cy="17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2320" y="2571840"/>
                    <a:ext cx="676116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295280" y="198108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gangstabel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4419720"/>
            <a:ext cx="777240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ar. : 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herzustellende Menge von Produkten i (i = 1,2,3,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B: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+ 9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+ 4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&lt;= 100 (Maschine I)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+ 7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&lt;=   40 (Maschine II)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    5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+ 4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&lt;=   35 (Maschine III)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+ 9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&lt;=   60 (Maschine IV)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+ 4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+ 5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&lt;=   60 (Maschine V)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NB:  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&gt;= 0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F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+ 7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6,5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9,7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ösung b) </a:t>
            </a:r>
            <a:br>
              <a:rPr sz="4400"/>
            </a:b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Welche Variable würde aus der Basis fallen, wenn Produkt 4 hergestellt werden würde ?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39760" y="2581200"/>
          <a:ext cx="6865920" cy="16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2581200"/>
                    <a:ext cx="68659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295280" y="198108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ch der 1. 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ösung b)</a:t>
            </a:r>
            <a:br>
              <a:rPr sz="4400"/>
            </a:b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Welche Variable würde aus der Basis fallen, wenn Produkt 4 hergestellt werden würde ?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54160" y="2585880"/>
          <a:ext cx="6837480" cy="16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2585880"/>
                    <a:ext cx="6837480" cy="16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295280" y="198108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ch der 2. 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ösung b) </a:t>
            </a:r>
            <a:br>
              <a:rPr sz="4400"/>
            </a:b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Welche Variable würde aus der Basis fallen, wenn Produkt 4 hergestellt werden würde ?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57400" y="2585880"/>
          <a:ext cx="6831000" cy="16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585880"/>
                    <a:ext cx="6831000" cy="16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295280" y="198108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ch der 3. 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4648320"/>
            <a:ext cx="685800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 1 fällt weg !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40/7 = 5,714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5/3   = 1,667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20/3 = 6,667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Zielfunktionswert nach wie vor  231/2 = 115,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ufgabe 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lche Werte kann der Deckungsbeitrag von Produkt 2 annehmen, ohne daß sich das Produktionsprogramm (Art und Menge der zu produzierenden Güter) veränder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ösung c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Welche Werte kann der DB von Produkt 2 annehmen, ohne daß sich das Produktionsprogramm veränder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209680"/>
            <a:ext cx="7696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ensibilitäts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ösung durch Variation eines Koeffizienten der Zielfunktion (c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muß gelt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3200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 =(B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* c &gt;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809880"/>
            <a:ext cx="79250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ktor mit Deckungsbeiträ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triktionsmatrix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verse Restriktionsmatrix  (Matrix aus Schlupfprozess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wendung des Simplex Algorithmus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Optimaltabelau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ösungsvekto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ve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ösung c)</a:t>
            </a:r>
            <a:br>
              <a:rPr sz="4400"/>
            </a:b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Welche Werte kann der DB von Produkt 2 annehmen, ohne daß sich das Produktionsprogramm verändert ?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2743200"/>
          <a:ext cx="8205840" cy="18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43200"/>
                    <a:ext cx="820584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rot="16200000">
            <a:off x="5333760" y="3276360"/>
            <a:ext cx="533520" cy="3581640"/>
          </a:xfrm>
          <a:custGeom>
            <a:avLst/>
            <a:gdLst>
              <a:gd name="textAreaLeft" fmla="*/ 340920 w 533520"/>
              <a:gd name="textAreaRight" fmla="*/ 533880 w 53352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tabel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2209680"/>
            <a:ext cx="830592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ben sei folgendes Modell zur Produktionsplan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. : 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herzustellende Menge von Produkten i (i = 1,2,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B: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9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4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&lt;= 100 (Maschine I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7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&lt;=   40 (Maschine II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5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4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lt;=   35 (Maschine III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+ 9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lt;=   60 (Maschine IV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4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+ 5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lt;=   60 (Maschine V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B:  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gt;= 0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F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7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de-DE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4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ufgabenstell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ösung c)</a:t>
            </a:r>
            <a:br>
              <a:rPr sz="4400"/>
            </a:b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Welche Werte kann der DB von Produkt 2 annehmen, ohne daß sich das Produktionsprogramm verändert ?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57200" y="1981080"/>
            <a:ext cx="5714640" cy="2057040"/>
            <a:chOff x="457200" y="1981080"/>
            <a:chExt cx="5714640" cy="2057040"/>
          </a:xfrm>
        </p:grpSpPr>
        <p:graphicFrame>
          <p:nvGraphicFramePr>
            <p:cNvPr id="170" name=""/>
            <p:cNvGraphicFramePr/>
            <p:nvPr/>
          </p:nvGraphicFramePr>
          <p:xfrm>
            <a:off x="644400" y="2197440"/>
            <a:ext cx="3934440" cy="15879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4400" y="2197440"/>
                      <a:ext cx="3934440" cy="158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457200" y="1981080"/>
              <a:ext cx="280800" cy="2057040"/>
            </a:xfrm>
            <a:custGeom>
              <a:avLst/>
              <a:gdLst>
                <a:gd name="textAreaLeft" fmla="*/ 82440 w 280800"/>
                <a:gd name="textAreaRight" fmla="*/ 281160 w 280800"/>
                <a:gd name="textAreaTop" fmla="*/ 85680 h 2057040"/>
                <a:gd name="textAreaBottom" fmla="*/ 1971360 h 20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485600" y="1981080"/>
              <a:ext cx="280800" cy="2057040"/>
            </a:xfrm>
            <a:custGeom>
              <a:avLst/>
              <a:gdLst>
                <a:gd name="textAreaLeft" fmla="*/ 82440 w 280800"/>
                <a:gd name="textAreaRight" fmla="*/ 281160 w 280800"/>
                <a:gd name="textAreaTop" fmla="*/ 85680 h 2057040"/>
                <a:gd name="textAreaBottom" fmla="*/ 1971360 h 20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53960" y="2630520"/>
              <a:ext cx="12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= B</a:t>
              </a:r>
              <a:r>
                <a:rPr b="0" lang="de-DE" sz="2400" spc="-1" strike="noStrike" baseline="30000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57200" y="4191120"/>
            <a:ext cx="5943600" cy="2133360"/>
            <a:chOff x="457200" y="4191120"/>
            <a:chExt cx="5943600" cy="2133360"/>
          </a:xfrm>
        </p:grpSpPr>
        <p:graphicFrame>
          <p:nvGraphicFramePr>
            <p:cNvPr id="176" name=""/>
            <p:cNvGraphicFramePr/>
            <p:nvPr/>
          </p:nvGraphicFramePr>
          <p:xfrm>
            <a:off x="642960" y="4414680"/>
            <a:ext cx="3905280" cy="16480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2960" y="4414680"/>
                      <a:ext cx="3905280" cy="164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>
              <a:off x="457200" y="4191120"/>
              <a:ext cx="279360" cy="2133360"/>
            </a:xfrm>
            <a:custGeom>
              <a:avLst/>
              <a:gdLst>
                <a:gd name="textAreaLeft" fmla="*/ 82080 w 279360"/>
                <a:gd name="textAreaRight" fmla="*/ 279720 w 279360"/>
                <a:gd name="textAreaTop" fmla="*/ 88560 h 2133360"/>
                <a:gd name="textAreaBottom" fmla="*/ 204480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0">
              <a:off x="4456080" y="4191120"/>
              <a:ext cx="279360" cy="2133360"/>
            </a:xfrm>
            <a:custGeom>
              <a:avLst/>
              <a:gdLst>
                <a:gd name="textAreaLeft" fmla="*/ 82080 w 279360"/>
                <a:gd name="textAreaRight" fmla="*/ 279720 w 279360"/>
                <a:gd name="textAreaTop" fmla="*/ 88560 h 2133360"/>
                <a:gd name="textAreaBottom" fmla="*/ 204480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27600" y="4753080"/>
              <a:ext cx="157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= (B</a:t>
              </a:r>
              <a:r>
                <a:rPr b="0" lang="de-DE" sz="2400" spc="-1" strike="noStrike" baseline="30000">
                  <a:solidFill>
                    <a:srgbClr val="000000"/>
                  </a:solidFill>
                  <a:latin typeface="Tahoma"/>
                </a:rPr>
                <a:t>-1</a:t>
              </a: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r>
                <a:rPr b="0" lang="de-DE" sz="2400" spc="-1" strike="noStrike" baseline="30000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400800" y="2743200"/>
            <a:ext cx="2742840" cy="2438280"/>
            <a:chOff x="6400800" y="2743200"/>
            <a:chExt cx="2742840" cy="2438280"/>
          </a:xfrm>
        </p:grpSpPr>
        <p:sp>
          <p:nvSpPr>
            <p:cNvPr id="182" name=""/>
            <p:cNvSpPr/>
            <p:nvPr/>
          </p:nvSpPr>
          <p:spPr>
            <a:xfrm>
              <a:off x="6400800" y="2743200"/>
              <a:ext cx="705240" cy="2438280"/>
            </a:xfrm>
            <a:custGeom>
              <a:avLst/>
              <a:gdLst>
                <a:gd name="textAreaLeft" fmla="*/ 94320 w 705240"/>
                <a:gd name="textAreaRight" fmla="*/ 610920 w 705240"/>
                <a:gd name="textAreaTop" fmla="*/ 426600 h 2438280"/>
                <a:gd name="textAreaBottom" fmla="*/ 176796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62640" y="3504960"/>
              <a:ext cx="18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ransponi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ösung c)</a:t>
            </a:r>
            <a:br>
              <a:rPr sz="4400"/>
            </a:b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Welche Werte kann der DB von Produkt 2 annehmen, ohne daß sich das Produktionsprogramm veränder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3876840"/>
            <a:ext cx="7924680" cy="48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 =(B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* c &gt;= 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7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6,5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4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04920" y="4495680"/>
            <a:ext cx="3580560" cy="1828800"/>
            <a:chOff x="304920" y="4495680"/>
            <a:chExt cx="3580560" cy="1828800"/>
          </a:xfrm>
        </p:grpSpPr>
        <p:graphicFrame>
          <p:nvGraphicFramePr>
            <p:cNvPr id="187" name=""/>
            <p:cNvGraphicFramePr/>
            <p:nvPr/>
          </p:nvGraphicFramePr>
          <p:xfrm>
            <a:off x="432360" y="4691520"/>
            <a:ext cx="3268800" cy="1412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2360" y="4691520"/>
                      <a:ext cx="3268800" cy="141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304920" y="4495680"/>
              <a:ext cx="233640" cy="1828800"/>
            </a:xfrm>
            <a:custGeom>
              <a:avLst/>
              <a:gdLst>
                <a:gd name="textAreaLeft" fmla="*/ 68760 w 233640"/>
                <a:gd name="textAreaRight" fmla="*/ 234000 w 233640"/>
                <a:gd name="textAreaTop" fmla="*/ 75960 h 1828800"/>
                <a:gd name="textAreaBottom" fmla="*/ 175284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800000">
              <a:off x="3651840" y="4495680"/>
              <a:ext cx="233640" cy="1828800"/>
            </a:xfrm>
            <a:custGeom>
              <a:avLst/>
              <a:gdLst>
                <a:gd name="textAreaLeft" fmla="*/ 68760 w 233640"/>
                <a:gd name="textAreaRight" fmla="*/ 234000 w 233640"/>
                <a:gd name="textAreaTop" fmla="*/ 75960 h 1828800"/>
                <a:gd name="textAreaBottom" fmla="*/ 175284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962520" y="4572000"/>
                <a:ext cx="46836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2" name=""/>
          <p:cNvGraphicFramePr/>
          <p:nvPr/>
        </p:nvGraphicFramePr>
        <p:xfrm>
          <a:off x="533520" y="2062080"/>
          <a:ext cx="7924680" cy="1671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062080"/>
                    <a:ext cx="7924680" cy="16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419720" y="5181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&g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876920" y="4572000"/>
                <a:ext cx="409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5334120" y="4419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4521240"/>
            <a:ext cx="3276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 &gt;= 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(wa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0,143 * c2 &gt;= 0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I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,2 * 6,5 &gt;= 0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(wa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- 0,048 * c2 + 0,167 * 5 &gt;= 0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II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 &gt;= 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(wa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094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ösung c)</a:t>
            </a:r>
            <a:br>
              <a:rPr sz="4400"/>
            </a:b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Welche Werte kann der DB von Produkt 2 annehmen, ohne daß sich das Produktionsprogramm veränder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2362320"/>
            <a:ext cx="6934320" cy="37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.)  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0,143 * c</a:t>
            </a:r>
            <a:r>
              <a:rPr b="1" lang="de-DE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 &gt;= 0</a:t>
            </a:r>
            <a:br>
              <a:rPr sz="1600"/>
            </a:b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&gt;= 0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I.)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- 0,048 * c</a:t>
            </a:r>
            <a:r>
              <a:rPr b="1" lang="de-DE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 + 0,167 * 5  &gt;= 0</a:t>
            </a:r>
            <a:br>
              <a:rPr sz="1600"/>
            </a:b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0,048 * c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+ 0,835        &gt;= 0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0,048 * c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&gt;= - 0,835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&lt;= 17,4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gt der Deckungsbeitrag c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von Produkt 2 zwischen den Grenzen   0 &lt;= c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&lt;= 17,40 verändert sich das Produktionsprogramm n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ufgabenstell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3048120"/>
          <a:ext cx="8205840" cy="18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8120"/>
                    <a:ext cx="820584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57200" y="2286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zugehörige Optimaltableau laute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eil a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stimmen Sie den Deckungsbeitrag von Produkt 3 und den Zielfunktions-wert der Optimallösu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eil b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lchen Deckungsbeitrag müßte Produkt 4 mindestens erwirtschaften, damit es produziert wi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lche Variable würde in diesem Fall aus der Basis herausfal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lchen Wert würde dann x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neh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eil c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lche Werte kann der Deckungsbeitrag von Produkt 2 annehmen, ohne daß sich das Produktionsprogramm (Art und Menge der zu produzierenden Güter) veränder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ösung a)</a:t>
            </a:r>
            <a:br>
              <a:rPr sz="4400"/>
            </a:b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Deckungsbeitrag von Produkt 3 und Zf-Wert der Optimallösung ermittel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2133720"/>
          <a:ext cx="8559720" cy="181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55972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57200" y="4419720"/>
            <a:ext cx="3505320" cy="13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10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2,875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7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wird nicht produzier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419720"/>
            <a:ext cx="4648320" cy="99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7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de-DE" sz="1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4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Z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„c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und Z sind unbekannt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360" y="3995640"/>
            <a:ext cx="48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us dem Tabelau ist zunächst ersichtlich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4038480"/>
            <a:ext cx="792468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ckungsbeitrag von Produ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-0,8)*0 + (0,2)*c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1,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6,5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(i=1..4) und in Zielfunktion 5x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+ 7x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+ (6,5)x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+ 4x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setzten :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*(10) + 7*(2,875) +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6,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(7) + 4*(0) = Z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115,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ösung a)</a:t>
            </a:r>
            <a:br>
              <a:rPr sz="4400"/>
            </a:b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Deckungsbeitrag von Produkt 3 und Zf-Wert der Optimallösung ermitt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59720" cy="1816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483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ösung b)</a:t>
            </a:r>
            <a:br>
              <a:rPr sz="4400"/>
            </a:b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Welchen Deckungsbeitrag müßte Produkt 4 mindestens erwirtschaften, damit es produziert wird?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86000"/>
            <a:ext cx="7467480" cy="38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DB vo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 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rrechnet sich wie folgt  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z</a:t>
            </a:r>
            <a:r>
              <a:rPr b="1" lang="de-DE" sz="18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5,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rläuter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en Ertrag einer Prozeßkombination mit gleichem  Verbrauch an Ressourcen wie ein Prozeß P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der auf dem Einheitsniveau betrieben wird nennt man den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indirekten Ertrag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en dem Einheitsniveau eines Prozesses P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irekt zugerechneten Ertrag c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nennt man den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direkten Ertra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von Prozeß P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vergl. Meyer und Hansen S.10-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7T18:32:59Z</dcterms:created>
  <dc:creator>Helmut Lindinger</dc:creator>
  <dc:description/>
  <dc:language>en-US</dc:language>
  <cp:lastModifiedBy>Helmut Lindinger</cp:lastModifiedBy>
  <dcterms:modified xsi:type="dcterms:W3CDTF">2001-05-09T16:26:53Z</dcterms:modified>
  <cp:revision>32</cp:revision>
  <dc:subject/>
  <dc:title>Aufgabe 52 – Teil 3</dc:title>
</cp:coreProperties>
</file>